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35D-A6A0-45C3-8117-31552A83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183-9F48-4825-B4B4-4486CA18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A1A-589B-4F8B-9456-308B7015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1E0-7FCF-4771-878A-40B64F66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CC76-746A-488A-B792-95085FF3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2BAF-E935-498D-B1E7-14F12194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CDD8-19B3-40FD-B91D-36786401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98F7-6BFB-44A0-A07A-C6267C7A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B307-191B-4F55-8F81-A4BC3CD2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8379-4CCA-4D45-B195-4934443F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C3AA-52E5-433C-83F5-A5A836A6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E79-BC7A-4AE5-AE10-6F3383FA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3FAC-2A1D-40C4-9764-F2294F9C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A7EA-B758-4D09-921C-53EF1CA3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3658-551B-4406-B725-BD7E502C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2B54-844A-4FA7-AC63-5884A715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58FC-5D71-450D-B0EF-A99A024C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CB4-E704-42F6-9DA5-0EB2CD74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44E-349C-4137-96AF-AF39499D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C34-4796-4D00-8567-95B2ECA5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5AE-DF0C-4C7D-B561-F418BCF6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7A3-19F0-4747-91A8-8B2882CC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7E6-5DE2-48D6-838C-16E5A84F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7F7-951E-45E7-B81A-6BF3B359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26DF-0D37-4964-ABA2-230C75B5C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B5B7-6598-4181-B93C-BBF17BE27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merican We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-99072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Lakota Trib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-83808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created Native American reservations to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t boundaries between Native Americans &amp; White sett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t Laramie Treaty of 1851, Intended to insure peace in the pl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flict with US Ar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Army put revolt down; tried to sentence Native Americans to death for war cr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le of Little Big Horn: Americans tried to force the Native Americans into the west; Sitting Bull refused for them to go and fought back; Lieutenant Colonel Custer led 750 men which took over the tri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 Expansion West after Civil W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moved westward after the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tried to force them to assimilate (integrate themselv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3:46:00Z</dcterms:created>
  <dc:creator>Yarmouth Schools</dc:creator>
  <dc:description/>
  <dc:language>en-US</dc:language>
  <cp:lastModifiedBy>YHS Teacher</cp:lastModifiedBy>
  <dcterms:modified xsi:type="dcterms:W3CDTF">2009-06-15T14:50:04Z</dcterms:modified>
  <cp:revision>3</cp:revision>
  <dc:subject/>
  <dc:title>American West</dc:title>
</cp:coreProperties>
</file>